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5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35.png" ContentType="image/png"/>
  <Override PartName="/ppt/media/image26.jpeg" ContentType="image/jpeg"/>
  <Override PartName="/ppt/media/image12.png" ContentType="image/png"/>
  <Override PartName="/ppt/media/image7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23.wmf" ContentType="image/x-wmf"/>
  <Override PartName="/ppt/media/image31.jpeg" ContentType="image/jpeg"/>
  <Override PartName="/ppt/media/image33.jpeg" ContentType="image/jpeg"/>
  <Override PartName="/ppt/media/image27.jpeg" ContentType="image/jpeg"/>
  <Override PartName="/ppt/media/image3.jpeg" ContentType="image/jpeg"/>
  <Override PartName="/ppt/media/image28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34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4.png" ContentType="image/png"/>
  <Override PartName="/ppt/media/image18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CA7-31B1-4411-9977-2A589A1A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184-F64F-4149-A9D8-2F83AC23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F8C-7876-4F8F-AF86-8E105784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CC1-CD29-43C9-A9C6-4C77547E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047-2050-45B1-9684-9D88D3E0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505-3AE8-4950-B822-F72231E5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AE0-20D7-49A3-8CAF-D533F8CC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C16-8371-4F48-B3E6-4C3982FF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625-BC73-4DB6-9EB0-0D31C75F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0A9-39F7-4C5B-8F8E-AE06DAFD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FD4-C3F9-4059-937E-96D04998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147-272D-424C-935D-289BB91C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A408-AA21-4437-B070-B50D19766E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AA09-1EE1-4077-9218-F48293A4C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asa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F94D-0D9D-41E8-9291-874571A45CED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5264-478D-4973-AF00-11F70177C5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hud.gov/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Your Own Home title slide with FDIC Money Smart logo and module logo of a house out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04920" y="19051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s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80880" y="300204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p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s presento a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tricia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técnica de medic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na $49,200 al año, o $4,100 al 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Vive con sus pad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Quiere aprender más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obre la propiedad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Woman examining a petri dish"/>
          <p:cNvPicPr/>
          <p:nvPr/>
        </p:nvPicPr>
        <p:blipFill>
          <a:blip r:embed="rId1"/>
          <a:stretch/>
        </p:blipFill>
        <p:spPr>
          <a:xfrm>
            <a:off x="6858000" y="762120"/>
            <a:ext cx="17524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 paso: Disponibilidad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n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fuente de ingresos es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buen historial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habilidad de pagar deudas, hipoteca y otros gastos adiciona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lanes de mudarse en 2 o 3 añ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nero para una entrada y los gastos de la firm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ntrada y otros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9903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tr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Generalmente el 20% del precio de v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Opciones para una entrada más baja podrían estar disponibles (p. ej., el 3% del precio de vent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tros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</a:rPr>
              <a:t>Emergencias, reparaciones y otros gastos del hog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</a:rPr>
              <a:t>Seguro hipotecario privado (PM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oin falling into a piggy bank"/>
          <p:cNvPicPr/>
          <p:nvPr/>
        </p:nvPicPr>
        <p:blipFill>
          <a:blip r:embed="rId1"/>
          <a:stretch/>
        </p:blipFill>
        <p:spPr>
          <a:xfrm>
            <a:off x="6931080" y="434016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g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cluyen capital e 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incluir PMI, impuestos de propiedad y seguro de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deberían ser más del 28% de sus ingre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ouse with dollar bills sticking out of the roof"/>
          <p:cNvPicPr/>
          <p:nvPr/>
        </p:nvPicPr>
        <p:blipFill>
          <a:blip r:embed="rId1"/>
          <a:stretch/>
        </p:blipFill>
        <p:spPr>
          <a:xfrm>
            <a:off x="3581280" y="3354480"/>
            <a:ext cx="19051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ras preguntas que debería hacer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ónde quiere vivi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tipo de vecindario quier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 hijos, ¿qué tipos de escuelas debería haber en el vecindari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espacio necesi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¿Está preparada Patricia para comprar una cas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gramas de asistencia para comprador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914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ra programas en su área, consult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prestamista o a su oficina del gobierno local sobre los programas de asistencia para compradores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agencia de asesoría de propiedad de vivienda aprobada por el Departamento de Vivienda y Desarrollo Urbano (HU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8" descr="Young couple in front of home with male realtor"/>
          <p:cNvPicPr/>
          <p:nvPr/>
        </p:nvPicPr>
        <p:blipFill>
          <a:blip r:embed="rId1"/>
          <a:stretch/>
        </p:blipFill>
        <p:spPr>
          <a:xfrm>
            <a:off x="2971800" y="4714920"/>
            <a:ext cx="2286000" cy="122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acterísticas de los programas gubernament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s de una entrada reduc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dares flexibles de subven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érminos más largos de pag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 formativo para propietarios de vivi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hibe discriminar en transacciones relacionadas a la vivienda en bas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lig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x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ís de orí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tus famili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scapa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y de Equidad en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 Equal Housing Opportunity Logo"/>
          <p:cNvPicPr/>
          <p:nvPr/>
        </p:nvPicPr>
        <p:blipFill>
          <a:blip r:embed="rId1"/>
          <a:stretch/>
        </p:blipFill>
        <p:spPr>
          <a:xfrm>
            <a:off x="4952880" y="2362320"/>
            <a:ext cx="2427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¿Tiene suficiente dinero Patricia para pagar la entr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 plante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T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g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M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omputer keyboard, cash and tax paperwork on desk with eye glasses and pen"/>
          <p:cNvPicPr/>
          <p:nvPr/>
        </p:nvPicPr>
        <p:blipFill>
          <a:blip r:embed="rId1"/>
          <a:stretch/>
        </p:blipFill>
        <p:spPr>
          <a:xfrm>
            <a:off x="5257800" y="1371600"/>
            <a:ext cx="196848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se pagan los impuestos y el segu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 una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uenta de depósito en garantí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La Ley de Procedimientos de Liquidación de Bienes Raíces (RESPA) limita el monto que necesita tener en una cuenta de depósito en garantí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r separ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69048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Usted es responsable de los pagos regula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Home model being held in two hands"/>
          <p:cNvPicPr/>
          <p:nvPr/>
        </p:nvPicPr>
        <p:blipFill>
          <a:blip r:embed="rId1"/>
          <a:stretch/>
        </p:blipFill>
        <p:spPr>
          <a:xfrm>
            <a:off x="6858000" y="3581280"/>
            <a:ext cx="1371600" cy="1171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9067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tro factores al decidir sobre préstamo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Diagram 6" descr=""/>
          <p:cNvPicPr/>
          <p:nvPr/>
        </p:nvPicPr>
        <p:blipFill>
          <a:blip r:embed="rId1"/>
          <a:stretch/>
        </p:blipFill>
        <p:spPr>
          <a:xfrm>
            <a:off x="1292400" y="1255680"/>
            <a:ext cx="66387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gundo paso: Determinar el tamaño de la hipoteca que se puede permi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765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ificación previ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informa del tamaño de la hipoteca que se puede permit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ompromiso que hace el prestamista con usted de prestarl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Woman and man reviewing pre-qualification paperwork"/>
          <p:cNvPicPr/>
          <p:nvPr/>
        </p:nvPicPr>
        <p:blipFill>
          <a:blip r:embed="rId1"/>
          <a:stretch/>
        </p:blipFill>
        <p:spPr>
          <a:xfrm>
            <a:off x="3352680" y="4784760"/>
            <a:ext cx="23623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lificación previa de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ificación previa de $165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imación genera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5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e 2 a 3 veces sus ingresos tota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 algn="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</a:rPr>
              <a:t>Si recibe una calificación mayor, ¡piense en lo que se puede permitir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914400" y="27432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  =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  98,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.5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23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3   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47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laciones deuda-ingresos (DT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ront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I o gastos de la vivienda deberían ser menos del 25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28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in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stos de la vivienda + deudas de largo plazo deberían ser menos del 33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36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3: ¿Qué tamaño de hipoteca se puede permitir Patrici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3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289160"/>
          <a:ext cx="8229600" cy="4572000"/>
        </p:xfrm>
        <a:graphic>
          <a:graphicData uri="http://schemas.openxmlformats.org/drawingml/2006/table">
            <a:tbl>
              <a:tblPr/>
              <a:tblGrid>
                <a:gridCol w="3810240"/>
                <a:gridCol w="4419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15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30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0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enos dinero prestado porque realiza pagos mensuales más alt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rápid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Intereses más bajos a paga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ba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ás dinero prestado porque realiza pagos mensuales más baj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lent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Se puede deducir más intereses de sus impuestos sobre la ren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al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o de hipote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266840"/>
          <a:ext cx="8458200" cy="4998960"/>
        </p:xfrm>
        <a:graphic>
          <a:graphicData uri="http://schemas.openxmlformats.org/drawingml/2006/table">
            <a:tbl>
              <a:tblPr/>
              <a:tblGrid>
                <a:gridCol w="3276720"/>
                <a:gridCol w="5181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f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aju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No puede aumentar la tasa de interé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Pagos predecib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de interés podrían disminuir por debajo de su tasa fi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 tasa de interés puede aumentar o disminui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podrían ser bajas sólo durante el periodo inici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mensualidades podrían empezar más bajas que los préstamos de tasa fija, pero luego subir considerable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rcer paso: Determinar qué opción hipotecaria es mejor para us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fi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ajustable (AR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sólo-inter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pagos quincen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ome and mortgage paperwork"/>
          <p:cNvPicPr/>
          <p:nvPr/>
        </p:nvPicPr>
        <p:blipFill>
          <a:blip r:embed="rId1"/>
          <a:stretch/>
        </p:blipFill>
        <p:spPr>
          <a:xfrm>
            <a:off x="6858000" y="37339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tá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alquilar comparado con ser propietario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as preguntas que se deben hacer para saber si están preparad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términos básicos y divulgaciones necesarias usadas en una transacción hipotecar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solamente el interés (no el capital) durante un plazo fijo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(p. ej., 5 a 7 añ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pués del plazo fijo, pue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financi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r el saldo de una v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mpezar a hacer pagos mensuales de la hipoteca para amortizar el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6477120" y="2133720"/>
            <a:ext cx="235260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 los préstamos de sólo-interé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952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buena opción si uste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va a vivir en la casa más allá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ingresos modestos que aumentarán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á intentando resolver problemas crediticios para refinanciar su tasa a una tasa fija me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convenientes de los préstamo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pag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no cubrir todos los intereses que debe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, no le permiten generar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ueden ser imposibles de pagar después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Podría incurrir en gastos de refinanciación si ya no puede realizar los pag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de pagos quincen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hipoteca convencional de tasa fija con pagos cada 2 sema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ternativa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ñadir más dinero a su pago mens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segúrese de que el prestamista no le cobrará una penalización por prepa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6" descr="Person filling out checkbook"/>
          <p:cNvPicPr/>
          <p:nvPr/>
        </p:nvPicPr>
        <p:blipFill>
          <a:blip r:embed="rId1"/>
          <a:stretch/>
        </p:blipFill>
        <p:spPr>
          <a:xfrm>
            <a:off x="3048120" y="4613400"/>
            <a:ext cx="2743200" cy="148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usque, compare, nego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ulte en periódicos e Internet para términos y tas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gocie su mejor pre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j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e los prestamistas compitan para conseguirle como cl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da los gastos por escr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APR y GFE para comparar todos lo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imación de Buena 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imación de gastos de los servicios de liqui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recibe cuando solicita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 GFE para comparar con los costos finales de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 prestamista si hay algún camb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Man signing paperwork"/>
          <p:cNvPicPr/>
          <p:nvPr/>
        </p:nvPicPr>
        <p:blipFill>
          <a:blip r:embed="rId1"/>
          <a:stretch/>
        </p:blipFill>
        <p:spPr>
          <a:xfrm>
            <a:off x="3352680" y="4495680"/>
            <a:ext cx="2360880" cy="1567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ja de trabajo de búsqueda de hipote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ley federal exige al prestamista o al agente qu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vulgue las estimaciones de cuánto costará el préstamo y la APR (Divulgación de Veracidad en los Préstam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diga una estimación de los gastos de la firma, y del dinero que va a necesitar en la firma (GF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12" descr="Couple shopping for mortgages"/>
          <p:cNvPicPr/>
          <p:nvPr/>
        </p:nvPicPr>
        <p:blipFill>
          <a:blip r:embed="rId1"/>
          <a:stretch/>
        </p:blipFill>
        <p:spPr>
          <a:xfrm>
            <a:off x="3581280" y="4925880"/>
            <a:ext cx="2065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rto paso: Ser elegible para un présta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btener una calificación previa y una 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a las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de asociación de vecinos al calcular sus gastos del ho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Man sitting with female lender"/>
          <p:cNvPicPr/>
          <p:nvPr/>
        </p:nvPicPr>
        <p:blipFill>
          <a:blip r:embed="rId1"/>
          <a:stretch/>
        </p:blipFill>
        <p:spPr>
          <a:xfrm>
            <a:off x="3056040" y="3809880"/>
            <a:ext cx="2506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4: ¿Es elegible Patricia para un préstam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4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 pregunta plante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ndo la relación deuda-ingresos excede la relación recomend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0666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ún podría ser elegible para un préstamo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la habilidad de pagar más hacia los gastos del ho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uestra pruebas de historial crediticio positivo y sosten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una entrada consider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reservas d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8" descr="Woman completing paperwork"/>
          <p:cNvPicPr/>
          <p:nvPr/>
        </p:nvPicPr>
        <p:blipFill>
          <a:blip r:embed="rId1"/>
          <a:stretch/>
        </p:blipFill>
        <p:spPr>
          <a:xfrm>
            <a:off x="6934320" y="1752480"/>
            <a:ext cx="1904760" cy="283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ersonas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las diferentes opciones para una hip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cómo las tasas de interés afectan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cómo los impuestos y el seguro afectan el pago mensual y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Paperwork with Sign Here sticker"/>
          <p:cNvPicPr/>
          <p:nvPr/>
        </p:nvPicPr>
        <p:blipFill>
          <a:blip r:embed="rId1"/>
          <a:stretch/>
        </p:blipFill>
        <p:spPr>
          <a:xfrm>
            <a:off x="3505320" y="4648320"/>
            <a:ext cx="198108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into paso: Realizar la liquid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8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1200" indent="-331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iquid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Firma de documentos que finalizarán la venta de la casa y cualquier financiación hipotecari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recho de revisar la declaración de liquidación al menos un día antes de la firm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Tiene problemas con los pago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de inmediato con su prestam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da ayuda a un asesor inmobiliario reconocido que le ofrezca servicios gratuitos o de bajo cos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Man with his head in his hands and hundred dollar bills in background"/>
          <p:cNvPicPr/>
          <p:nvPr/>
        </p:nvPicPr>
        <p:blipFill>
          <a:blip r:embed="rId1"/>
          <a:stretch/>
        </p:blipFill>
        <p:spPr>
          <a:xfrm>
            <a:off x="3048120" y="3962520"/>
            <a:ext cx="274320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provechar el capital de su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417680"/>
            <a:ext cx="6553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sobre el capital de la vivien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ínea de crédito sobre el capital de una vivienda (HELO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ación y refinanciación en efectiv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s reverti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Paperwork, calculator, and thousands of dollars in cash"/>
          <p:cNvPicPr/>
          <p:nvPr/>
        </p:nvPicPr>
        <p:blipFill>
          <a:blip r:embed="rId1"/>
          <a:stretch/>
        </p:blipFill>
        <p:spPr>
          <a:xfrm>
            <a:off x="6858000" y="1905120"/>
            <a:ext cx="1847880" cy="2463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990360"/>
            <a:ext cx="86868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único con una suma específ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 suele ofrecer a una tasa de interés fij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mensuales iguales a lo largo de un periodo específico de tiemp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7" descr="Bank or financial institution"/>
          <p:cNvPicPr/>
          <p:nvPr/>
        </p:nvPicPr>
        <p:blipFill>
          <a:blip r:embed="rId1"/>
          <a:stretch/>
        </p:blipFill>
        <p:spPr>
          <a:xfrm>
            <a:off x="3124080" y="403848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ínea de crédito sobre el capital de un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unciona como una tarjeta de 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tiliza la línea de crédito cuando lo neces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l pagar el capital el crédito disponible vuelve 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 de interés normalmente varia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4" descr="Credit card and percentage symbol"/>
          <p:cNvPicPr/>
          <p:nvPr/>
        </p:nvPicPr>
        <p:blipFill>
          <a:blip r:embed="rId1"/>
          <a:stretch/>
        </p:blipFill>
        <p:spPr>
          <a:xfrm>
            <a:off x="60958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11430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ilidad para financiar grande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 de interés más baja qu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és se puede deducir de sus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0" descr="Living/entry room being renovated"/>
          <p:cNvPicPr/>
          <p:nvPr/>
        </p:nvPicPr>
        <p:blipFill>
          <a:blip r:embed="rId1"/>
          <a:stretch/>
        </p:blipFill>
        <p:spPr>
          <a:xfrm>
            <a:off x="3505320" y="3886200"/>
            <a:ext cx="213336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iesgo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asa es la garant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la inmobiliaria puede dismin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/pagos pueden aument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tación de usar el dinero para inversiones o compras insensat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968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a cuidadoso y autodisciplin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s derechos bajo la ley fed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3 días hábiles después de firmar los documentos del préstamo para cancelar el acuerdo sin penaliz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be cancelar el acuerdo por escr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l prestamista debe devolverle cualquier costo o cargo de financiación que haya pa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se aplica si está comprando una casa o refinanciando sin tomar más dinero pr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ciones de refinanci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34136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Refinanciación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para vivienda existente es pagado y reemplazado por un préstamo nuev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 de refinanciación en efectivo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tomar más dinero prestado de lo que debe en el préstamo que va a sustit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5" descr="Small model home"/>
          <p:cNvPicPr/>
          <p:nvPr/>
        </p:nvPicPr>
        <p:blipFill>
          <a:blip r:embed="rId1"/>
          <a:stretch/>
        </p:blipFill>
        <p:spPr>
          <a:xfrm>
            <a:off x="3038400" y="4341960"/>
            <a:ext cx="252432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3520" y="106632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actual: $100,000 al 9.9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 un total de $87,00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idad: $873.8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iere $20,000 para hacer reform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Ladder"/>
          <p:cNvPicPr/>
          <p:nvPr/>
        </p:nvPicPr>
        <p:blipFill>
          <a:blip r:embed="rId1"/>
          <a:stretch/>
        </p:blipFill>
        <p:spPr>
          <a:xfrm>
            <a:off x="3373560" y="3706920"/>
            <a:ext cx="173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 propietario de una vivien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tomar dinero prestado contra el valor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qué pueden hacer si están teniendo problemas para cumplir con los pag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opciones de refinanci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una hipoteca revert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prácticas abusivas de préstamos y timos en los préstam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1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107,000 ($87,000 + 20,0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asa de interés: 6.0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ensualidad: $642.90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31,442.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87,000 a $522.73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éstamo sobre el capital de la vivienda: $20,000 a 7.36% x 2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26,440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revert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990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ar prestado contra el capital de la vivienda para recibir dinero en efectiv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v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Mediante pagos mens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mo una línea de crédito que usa cuando necesi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pietarios deben tener al menos 62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 menos un titular debe vivir en la casa durante la mayor parte del año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po de casa debe ser eleg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ideraciones de la hipoteca revertid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9428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devolver el préstamo + intereses cuando vende, se muda o mu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El monto que debe asciende con el tiemp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gue pagando los impuestos de propiedad, el seguro y repar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heredero debe devolver el préstamo si se queda con la ca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suma que tiene que pagar por adelantado hace que los primeros años sean bastante costoso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ácticas de préstamos abu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6200" y="15998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ácticas de marketing, prácticas de cobro y plazos de préstamos que engañan y abusan de los consumidores que piden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6" descr="Computer mouse cord caught in mouse trap"/>
          <p:cNvPicPr/>
          <p:nvPr/>
        </p:nvPicPr>
        <p:blipFill>
          <a:blip r:embed="rId1"/>
          <a:stretch/>
        </p:blipFill>
        <p:spPr>
          <a:xfrm>
            <a:off x="533520" y="1600200"/>
            <a:ext cx="31636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artamento de Vivienda y Desarrollo 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447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ancia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curso para personas que han comprado una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gencias de asesoría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 HUD para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lista de agencias de asesoría para viviendas aprobadas por HU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1-800-569-428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hud.gov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5" descr="Classroom with instructor drawing on whiteboard"/>
          <p:cNvPicPr/>
          <p:nvPr/>
        </p:nvPicPr>
        <p:blipFill>
          <a:blip r:embed="rId2"/>
          <a:stretch/>
        </p:blipFill>
        <p:spPr>
          <a:xfrm>
            <a:off x="7238880" y="1371600"/>
            <a:ext cx="1633680" cy="2205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8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lquilar comparado con ser propietario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Preguntas que debe hacerse para determinar si está preparado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componente de una hipote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Diferentes opciones de hipoteca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provechar el capital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Inconvenientes y riesgos de una refinanciación hipotecaria insens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Outline of person under roofline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comprar o ser propietario de una cas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lquil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mantenimiento del inmue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ntrato de alquiler de 1 año o menos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costos asociados a ser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sted no es el due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alquiler podrí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posible que no pueda renovar su con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" descr="For Rent sign in front of high-rise building"/>
          <p:cNvPicPr/>
          <p:nvPr/>
        </p:nvPicPr>
        <p:blipFill>
          <a:blip r:embed="rId1"/>
          <a:stretch/>
        </p:blipFill>
        <p:spPr>
          <a:xfrm>
            <a:off x="7162920" y="3200400"/>
            <a:ext cx="1757160" cy="176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r propietario de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enerar capital y tomar dinero prestado contra é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uena inver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tereses de la hipoteca desgrav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Un activo que puede dejar a su famil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ntenimiento y reformas de la propi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es tan fácil mudarse como con alquil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iesgo de perder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Family (mother, father, and three girls) sitting on couch in home"/>
          <p:cNvPicPr/>
          <p:nvPr/>
        </p:nvPicPr>
        <p:blipFill>
          <a:blip r:embed="rId1"/>
          <a:stretch/>
        </p:blipFill>
        <p:spPr>
          <a:xfrm>
            <a:off x="6934320" y="2209680"/>
            <a:ext cx="199692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inco pasos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comprar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el tamaño de la hipoteca que se puede permit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ón hipotecaria es mejor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elegible para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 </cp:lastModifiedBy>
  <cp:lastPrinted>2010-01-07T20:59:10Z</cp:lastPrinted>
  <dcterms:modified xsi:type="dcterms:W3CDTF">2011-02-14T18:36:54Z</dcterms:modified>
  <cp:revision>60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